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59FD-48E0-4942-A268-9ABBA96D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A6D7-AD84-4499-BDB8-9508739B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85E3-5C4B-4CF8-8B2C-E677562BA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5013-7989-4EB3-B39C-A8143F55B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529D-B15A-46EA-970B-563D98A5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126F-5CB9-4494-A82E-BD2E07FA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94AA-6591-4DCA-83B6-003F8692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CAD6-BF68-421A-BC9F-6382A3A2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A31F-1CAB-46AE-A6C0-27B9CCAE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56DA-7F52-43F2-8EE3-984B5D90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2269-A8B7-4EF6-A928-6D9B261A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38E6-9091-4938-8358-066F5011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FD24-4A45-4A46-84F0-24A978D6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DB4D-CF9B-489A-BCB6-24B443E3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B641-17DB-43FC-8339-81430BF5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C1AF-38EC-48A2-AB4A-6DF224E4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99DE-F48B-41BB-BB07-138659DFF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226A-FBD4-42C6-AEBC-B1304D0C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E4B9-7046-4F88-A25F-314870A5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087B-5A9F-4C72-A1C1-CAF639FE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071C-65B2-483E-801A-7529C1F4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8AD2-E516-4693-A977-F096184C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F651-EE8F-4F01-B1B3-4F81D34F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4AD4-990F-4CFC-9A90-7634B93C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AAF7-1EF4-4678-9E18-49C32F4AED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58E0-AEB1-4AEE-A67B-714EFB4156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LESSON 1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Benguiat Bk BT"/>
              </a:rPr>
              <a:t>AN INTRODUCTION TO THE PARA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THE PARABLES OF JES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PARABLES &amp; LO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1600200"/>
          <a:ext cx="8229600" cy="4998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PAR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MATTH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Laborers in the Vineyar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0:1-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Two S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1:28-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Marriage of King &amp; Wedding Garm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2:1-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Ten Virgi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5:1-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Tal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5:14-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Sheep &amp; The Goa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5:31-4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PARABLES ONLY IN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LUK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5175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Two Debto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7:36-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Good Samarit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0:25-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Friend at Midni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1:5-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Rich Fo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2:16-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Watchful Serva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2:35-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Barren Fig T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6-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Chief Sea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4:7-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Feast For The Po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4:12-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Great Sup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4:16-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Unfinished Tow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4:28-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PARABLES ONLY IN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LUK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57200" y="1600200"/>
          <a:ext cx="8229600" cy="4657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King Going To W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4:31-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Lost Co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5:8-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Prodigal 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5:11-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Dishonest Stew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6:1-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Rich Man &amp; Lazaru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6:19-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Master &amp;  Serva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7:7-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Persistent Wid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8:1-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Pharisee &amp; Public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8:9-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Pou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9:11-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PARABLES ARE DIFFER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llegory – Both are comparisons – differ in form not ess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very detail in allegory i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eaningful (Gal. 4:21-3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xplanation is contained in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llegory (John 10:1-18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Literally a “figur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Parables teach only one truth –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llegory may teach several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f. Isa. 5:1-7; Psa. 80:8-1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PARABLES ARE DIFFERENT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ables or My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eligion vs the secular – both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each less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ables contain fantasy, unreal,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unnatural ev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otham’s talking tree seeking a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uler (Jud. 9:7-1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maziah sends messengers to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ehoash (2 Kings 14:8-1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ables place the unnatural into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natural so as to teach some desire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ru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PARABLES ARE DIFFERENT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roverb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iffer from Parables even though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oth words are use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nterchangeably in the New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esta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uke 4:23 – more a proverb than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r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ometimes called 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“dark sayings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ohn 16:2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enerally, proverbs are short – “</a:t>
            </a:r>
            <a:r>
              <a:rPr b="1" lang="en-US" sz="2800" spc="-1" strike="noStrike">
                <a:solidFill>
                  <a:srgbClr val="ffffff"/>
                </a:solidFill>
                <a:latin typeface="BernhardMod BT"/>
              </a:rPr>
              <a:t>utter </a:t>
            </a:r>
            <a:r>
              <a:rPr b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ernhardMod BT"/>
              </a:rPr>
              <a:t>part of their meaning and leave the rest to be </a:t>
            </a:r>
            <a:r>
              <a:rPr b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ernhardMod BT"/>
              </a:rPr>
              <a:t>inferred </a:t>
            </a:r>
            <a:r>
              <a:rPr b="1" lang="en-US" sz="2800" spc="-1" strike="noStrike">
                <a:solidFill>
                  <a:srgbClr val="ffffff"/>
                </a:solidFill>
                <a:latin typeface="Benguiat Bk BT"/>
              </a:rPr>
              <a:t>(Tren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WHY JESUS USED PARAB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Old Testament said He woul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Psalm 78: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kes truth clear to believers (Matt. 13:10-12; Lk. 8:9-1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They illustrate the princip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They spur men to deeper   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thought and refle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 They attract atten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4. They are dur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5. They stimulate inqui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WHY JESUS USED PARABLES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test the character of the hearer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disarm antagonism, hasty judgment &amp; preconceived prejudice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demand an answer, to encourage a verdict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enable the hearer to recognize themselve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produce a sudden awakening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move men’s thoughts from the earthly to the heavenly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quicken the powers to hear properl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leave men with clear options and alternative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9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4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9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4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9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4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9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RULES FOR INTERPRETING THE PARAB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void making every detail to be meaningful &amp; 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eek first to understand the salient or principle tru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rables must not be the primary of first source of tru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Never interpret the literal from the figurat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ook for the obvious, easy truth, and its appl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iscover from the contex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llow Christ to explain His own par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RULES FOR INTERPRETING THE PARABLES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Search the context for explanations, hints, or cl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arable of wedding (Matt 22:1-14)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Many are called, but few chosen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oolish &amp; wise virgins (Matt 25:1-13)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Therefore keep watch, because you do not know the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day or the hour.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Lost sheep, coin, boy (Luke 15)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This man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welcomes sinners and eats with them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ersistent Widow (Luke 18)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Parable…they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ought always to pray and not faint.”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harisee &amp; Publican (Luke 18)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Some were…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self-righteous and looked down on everyone els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arable of pound (Luke 19)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…people thought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the kingdom of God was going to appear at once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GENERAL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salm 78:2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I will open my mouth in parables, I will utter hidden things, things from of old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k 4:33-34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With many similar parables Jesus spoke the word to them, as much as they could understand. He did not say anything to them without using a parable.  But when He was alone with His own disciples, He explained everything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rables were used before Jesus’ time but never with His success. When we think of parables we think of Jes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parable comprise 1/3 of the recorded teachings of Jesu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RULES FOR INTERPRETING THE PARABLES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G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Unrighteous steward (Luke 16)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Use world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wealth to gain friends…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H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Unmerciful Servant (Matt (18)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How many times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should I forgive my brother?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Laborers in vineyard (Matt. 20)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So the last will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be first, and the first will be last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J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Rich Fool (Luke 12)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Watch out! Be on your guard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against all kinds of greed…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When parables relate to kingdom it is different from earthly kingdo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e honest with the tex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e diligent in study and pray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Make first applications to yourself. Let the Lord instruct yo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doni MT Black"/>
              </a:rPr>
              <a:t>WHAT IS A PARABL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ARABOLE – “PARA,” beside or alongside; “BOLLO,” to thro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asic Idea: a comparison; an analogy; a figurative say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An earthly story with a heavenly meaning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– Good general defini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ut a bit too general – some do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not tell a story – rather saying or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dage (ancient wisdom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Physician heal thyself”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(Luke 4:23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B</a:t>
            </a:r>
            <a:r>
              <a:rPr b="1" i="1" lang="en-US" sz="2400" spc="-1" strike="noStrike">
                <a:solidFill>
                  <a:srgbClr val="ffffff"/>
                </a:solidFill>
                <a:latin typeface="BernhardMod BT"/>
              </a:rPr>
              <a:t>lind leading the blind” </a:t>
            </a:r>
            <a:r>
              <a:rPr b="1" lang="en-US" sz="2400" spc="-1" strike="noStrike">
                <a:solidFill>
                  <a:srgbClr val="ffffff"/>
                </a:solidFill>
                <a:latin typeface="BernhardMod BT"/>
              </a:rPr>
              <a:t>(Matthew 15:14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Nothing inside a man can  make him ‘unclean’ by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going into him. Rather, it is what comes out of a man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that makes him ‘unclean.’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(Mark 7:15-15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DEFINITION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Parables use familiar experiences and makes an application by comparison or analo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parable “User”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throws down”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 familiar story and then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lays alongside”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desired appli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HOW ARE PARABLES USED IN SCRIP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Old Testament Parables – proverbs or similitude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Isa. 5:1-7 – God’s parable on Israel being a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vineyard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2 Sam. 12:1-7 – Nathan’s parable to David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(the only sheep), 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you are the man.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New Testament Parables – Some 45 different moral stories of Jesu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Luke records the greater portion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Matthew records Kingdom parable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Mark presents very few parable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John presents NO parable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PARABLES &amp; LO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28600" y="1600200"/>
          <a:ext cx="8686800" cy="515160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PARA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MATTHE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MAR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LUK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Children of  Bridegro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9:14-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:18-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5:33-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New Patches/Old Garm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9: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: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5: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New Wine/Old Wineski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9: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: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5: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Sow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3-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4:2-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8:4-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Mustard Se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31-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4:30-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18-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Wicked Husbandm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1:33-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2:1-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0:9-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Fig Tre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4:32-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28-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1:29-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PARABLES &amp; LO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PARA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MATTHE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LUK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Wise &amp; Foolish Buil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7:24-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6:47-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Children in the market pl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1:16-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7:31-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Leav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20-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Lost Shee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8:12-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5:3-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Wise Stew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4:45-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2:42-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PARABLES &amp; LO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1600200"/>
          <a:ext cx="8229600" cy="4876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PAR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MATTH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Tar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24-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Hidden Treas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4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Precious Pear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47-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Dragn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51-5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Househol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51-5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Unmerciful Serv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8:23-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0T21:11:15Z</dcterms:created>
  <dc:creator>Jerry Cantrell </dc:creator>
  <dc:description/>
  <dc:language>en-US</dc:language>
  <cp:lastModifiedBy>Jerry Cantrell </cp:lastModifiedBy>
  <dcterms:modified xsi:type="dcterms:W3CDTF">2006-02-06T19:47:39Z</dcterms:modified>
  <cp:revision>23</cp:revision>
  <dc:subject/>
  <dc:title>THE PARABLES OF JESUS</dc:title>
</cp:coreProperties>
</file>